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C8C9-04EB-4701-8B29-FC696CE6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3CF8-4681-4F97-9FCD-0AE540E13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DA0-1948-46E2-9CAE-680F5E0A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DB20-8D09-4FEA-889A-8ACA831E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F286-F26F-498F-A1DE-B1F57C00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245F-21C1-4EB1-817A-DBAECC1A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490-86C7-4E35-AAD4-45D340524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5AA9-3181-431B-8999-787AF70F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7B1-E433-4577-88EF-61A8E487F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45D8-212F-449B-A2F3-AB0E7803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E53D-46A2-4235-B750-BA11FB4E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CDA6-6A62-4175-BC72-6ED128FB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724-65EF-4BE8-B93C-FEA0E80B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30E0-7B28-48AB-A3B5-1D1AF387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1DF-81F9-4B85-A2D1-FB9BE698F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2B76-7795-4F57-A435-D7FB1995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624-4986-4DB2-B61D-F8077940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72B8-0A85-4534-B300-E7630B9C7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894-DD91-466A-BFDD-34D57F86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A3B-D62C-4350-9BFF-A60F7BC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30F-5560-4D08-9765-3ED3941C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31E-572A-42B3-B02E-9A180DA9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6A5-CA00-49E1-B8D9-8FD74CD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7C8-8D85-4D98-B217-91054DA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59B-B2DF-4B77-93F6-FD8F1447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567-99D2-4D36-9A01-BCE1A655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CD8-D012-4E0C-ACE4-2537758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77E-C232-4F1A-BAFD-556A008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58C-18E4-4939-A2B5-6202A9D6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418-7D25-48F4-88D4-59EDE11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9B2-6CC8-451A-95B5-DBB58697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mplementationbody.gov.i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roke Park Agreement – Challenges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l Authority HR Annual Conferenc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cto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J Fitzpatrick, Chair - Implementation Bod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71800" y="9907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90920" y="685800"/>
            <a:ext cx="4248000" cy="1922400"/>
          </a:xfrm>
          <a:prstGeom prst="rect">
            <a:avLst/>
          </a:prstGeom>
          <a:solidFill>
            <a:srgbClr val="ccff99">
              <a:alpha val="50000"/>
            </a:srgbClr>
          </a:solidFill>
          <a:ln w="120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Arial"/>
              </a:rPr>
              <a:t>7. Challenges ahead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lexibility &amp; capacity to respond to needs of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re for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tter for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l value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mproved organisational and persona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7. Challenges ahead (cont’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ed to advance key cross-sectoral challenge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hared services – back office (e.g. shared payroll) and end-user (e.g. single student grant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nline services – more services online –incentivis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reater information sharing – mean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9900"/>
                </a:solidFill>
                <a:latin typeface="Arial"/>
              </a:rPr>
              <a:t>8. Local Government Sector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taining local services with few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Government efficiency review a priority for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ment staffing review Dublin City Counci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ayering management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rther restructuring to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ater sharing of functions and exploiting full potential of shared services and joint procurement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onlin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productiv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9. Challenges for Managers and Un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mbition and urgency? –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role of middle manag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 of you all – not just top management or the person in the next offic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rsistence &amp; stamina - stay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You &amp; Local Authority Management – vital role - can make the agreement succeed &amp; transform the citizen’s experience of public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9. Challenges for Managers and Unions</a:t>
            </a:r>
            <a:r>
              <a:rPr b="1" lang="en-IE" sz="4000" spc="-1" strike="noStrike">
                <a:solidFill>
                  <a:srgbClr val="009900"/>
                </a:solidFill>
                <a:latin typeface="Arial"/>
              </a:rPr>
              <a:t> (cont’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ons – engage positively and constructively – opportunity to influence and contribut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ership needed on both sides to deliver real change and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 Body and Labour Court have emphasised consultation &amp;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0. What is Requ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d HR/Leadership/Change skil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ility to manage in a r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unications vital – to date good &amp;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line &amp; middle managers – role vital &amp; more delegation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seminate good practice - no time to rein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0. What is Required (cont’d.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ership &amp;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ch improved performance management &amp;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ourcing – thorny but part of solution if approached correctly and in line with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00"/>
                </a:solidFill>
                <a:latin typeface="Arial"/>
              </a:rPr>
              <a:t>11. Scrutiny &amp;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ings &amp; Reforms – must be verifiable &amp; transparent – external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Reports on Action Plans due to be submitted to the Body next we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show much further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utinised as never before – ECB &amp; IMF, Government, Media &amp;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visit Action Plans later in the year to factor in relevant developments post-Comprehensiv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urther Savings Report next 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Arial"/>
              </a:rPr>
              <a:t>12.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ent McKinsey survey on organisational re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8% added value, completed on time and fully met busines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ons – most successful involved staff and explained to staff changes plan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communication plans and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sured HR, ICT, Financial and other systems/processes in place to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2. Conclusions (Cont’d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challenges be met? - Experience to date suggests they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it be easy? - Certainly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iculties ahead? - Without dou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they be overcome?   –  Yes if approached correctly by managements &amp; Un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1. Origins of Agre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9 – non payment of general round pay increases, reduction in variable pay, pension levy &amp; pay reductions, recruitment morato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14% reduction in take home pay, up to 24.5% for top gr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avings from pension levy and pay reductions alone - €1.8bn pa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icult environment for Unions to sell need for and content of Agreement to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 more information visit our website at: </a:t>
            </a:r>
            <a:r>
              <a:rPr b="0" lang="en-GB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mplementationbody.gov.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590920" y="685800"/>
            <a:ext cx="4248000" cy="1922400"/>
          </a:xfrm>
          <a:prstGeom prst="rect">
            <a:avLst/>
          </a:prstGeom>
          <a:solidFill>
            <a:srgbClr val="ccff99">
              <a:alpha val="50000"/>
            </a:srgbClr>
          </a:solidFill>
          <a:ln w="120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aramond"/>
                <a:ea typeface="Arial"/>
              </a:rPr>
              <a:t>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00"/>
                </a:solidFill>
                <a:latin typeface="Arial"/>
              </a:rPr>
              <a:t>2.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Implementation Body – established July 201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Supported by sectoral Grou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Annual Action Plan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First Annual Review of savings and progress published in June 201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Next report – October 201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000000"/>
                </a:solidFill>
                <a:latin typeface="Arial"/>
              </a:rPr>
              <a:t>Significant events – interim repor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ustainable paybill savings - €289m in Year 1 (Mar 2010 to Mar 2011) – exceeded tar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Driven primarily by numbers reduction (down by 5,349 in the period and down 17,600 since end 2008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but also overtime (down 5.2%), changed work practices, rationalisation, extended working day in Health, 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limate of Industrial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olid start – but – much remains to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00"/>
                </a:solidFill>
                <a:latin typeface="Arial"/>
              </a:rPr>
              <a:t>3. Firs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4. Status of Agre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Government decision to abide b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withou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deliver what it says and new Programme for Government public service reform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eement – a tool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Department of Public Expenditure and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Reform &amp; Delivery Office in D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7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9900"/>
                </a:solidFill>
                <a:latin typeface="Arial"/>
              </a:rPr>
              <a:t>5.</a:t>
            </a:r>
            <a:r>
              <a:rPr b="1" lang="en-IE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009900"/>
                </a:solidFill>
                <a:latin typeface="Arial"/>
              </a:rPr>
              <a:t>Some examples of progress to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re significant redeployments –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000 CWOs from HSE and 700 Fás staff to D/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deployment/re-assignments in the Health Service post early retirement/voluntary redundancy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000+ Primary teachers, 100 secondary teach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ductivity increases and effici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tra hours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ngle student grant scheme &amp; online – 4 schemes with 66 providers replaced by 1 scheme, 1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/Agriculture local offices – close 41, retain 16, redeploy 3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9900"/>
                </a:solidFill>
                <a:latin typeface="Arial"/>
              </a:rPr>
              <a:t>6. Some examples of  progress to date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hared services centre for medical card processing – less staff, more work and quicker turnaroun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n line 44% or 5,400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300 services online including new range of new epayment options, e.g. NPPR,  fines, waste b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anges to work practices, flexibilities across the public service, e.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andardisation of annual leave across public service – work advanc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dernisation of laboratory services in the health sector (€5m in savings) - radiology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greements on work practice changes in certain hospitals e.g. Holles St., St. Michael’s House (€3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fficiency reviews of all Prisons (€21m savings through new work practi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ganisational reforms in Fingal Co. Co.(€3.7m in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9900"/>
                </a:solidFill>
                <a:latin typeface="Arial"/>
              </a:rPr>
              <a:t>7. Economic and fiscal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2011 – €18bn Exchequer Borrowing Requ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t sustainable - gap must be reduced to 8.6% next year – €3.6bn or €4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prehensive Review of Expend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fficult decisions exp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w-hanging fruit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ainful but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t business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tect frontlin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ll have significant IR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Arial"/>
              </a:rPr>
              <a:t>7. Challenges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urther significant reductions in staff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gramme for Government commi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duction of between 18,000-21,000 by 2014 over end 2010 levels and a further 4,000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me decisions made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ECs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rging of employment rights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malgamation of Local Auth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rth and South Tippe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merick City and Cou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8:15Z</dcterms:created>
  <dc:creator/>
  <dc:description>Cleaned by 3BClean from 3BView: http://www.3bview.com</dc:description>
  <dc:language>en-US</dc:language>
  <cp:lastModifiedBy>Alan Plummer</cp:lastModifiedBy>
  <dcterms:modified xsi:type="dcterms:W3CDTF">2011-10-14T14:19:02Z</dcterms:modified>
  <cp:revision>15</cp:revision>
  <dc:subject/>
  <dc:title>Croke Park Agreement – Challenges Ahead</dc:title>
</cp:coreProperties>
</file>