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8DA9-26E5-4455-A757-8C533261B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437A-4850-4A01-AF6F-A85549A08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0E0E-0DE9-4049-BEFC-24A6EDBA8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3200-A453-4539-8739-43D31C218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CD0B-F89A-48AC-A786-C894B2F3B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5A4A-78F0-4D95-A6F4-08E146B44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5106-5B5A-48E9-BCE7-0DB8C9429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A8D8-BB6A-4AC0-817B-1591F49A4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790B-2524-4C23-B948-DFD59168E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850C-27FE-47AD-84DF-689F64DDF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4D0A-E64C-4D7E-9FE4-7A20974A1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9349-D654-4406-8993-B5819E577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8E21-A97E-47E3-9D75-C54E5B8F9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1C5D-5613-446D-8A55-0D5BC3481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BDAF-728D-4789-9654-D79F6AD18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01B6-9A5E-4219-8233-F61DA0526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E3CC-8F2F-4B8E-8E35-1F4A92A18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2904-AB24-47F3-895C-FBF21C0EB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EC0D-5961-4733-87CB-5E46D939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AD9-0FE6-4684-BBD7-42ABC791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8F1-309E-477A-AC92-0F6486C4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AB6-6037-4D76-B50B-F2B7FF80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480-45BE-400D-B23D-7F33FE97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3D1D-9E27-463B-97ED-59B89E1A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EC1D-09D6-4180-AF98-6F0039DA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9EA-DEB8-49F9-8327-92D5B4AA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8F28-2ADF-4C05-BA88-21751FA4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76D-5FC4-4E10-9225-FAA3DE94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36B-694E-4ED3-A8FE-611814A2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08DA-B33E-42E8-B418-F1D75F51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BEE0-39F2-488E-AC73-ACD06D866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mplementationbody.gov.ie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roke Park Agreement – Challenges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cal Authority HR Annual Conferenc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cto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J Fitzpatrick, Chair - Implementation Bod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971800" y="9907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590920" y="685800"/>
            <a:ext cx="4248000" cy="1922400"/>
          </a:xfrm>
          <a:prstGeom prst="rect">
            <a:avLst/>
          </a:prstGeom>
          <a:solidFill>
            <a:srgbClr val="ccff99">
              <a:alpha val="50000"/>
            </a:srgbClr>
          </a:solidFill>
          <a:ln w="120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Garamond"/>
                <a:ea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Garamond"/>
                <a:ea typeface="Arial"/>
              </a:rPr>
              <a:t>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Arial"/>
              </a:rPr>
              <a:t>7. Challenges ahead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lexibility &amp; capacity to respond to needs of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ore for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etter for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al value for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mproved organisational and personal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Arial"/>
              </a:rPr>
              <a:t>7. Challenges ahead (cont’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eed to advance key cross-sectoral challenges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hared services – back office (e.g. shared payroll) and end-user (e.g. single student grant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nline services – more services online –incentivise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reater information sharing – means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9900"/>
                </a:solidFill>
                <a:latin typeface="Arial"/>
              </a:rPr>
              <a:t>8. Local Government Sector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taining local services with fewer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 Government efficiency review a priority for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agement staffing review Dublin City Council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ayering management g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rther restructuring to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eater sharing of functions and exploiting full potential of shared services and joint procurement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onlin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tional productivit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Arial"/>
              </a:rPr>
              <a:t>9. Challenges for Managers and Un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mbition and urgency? –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role of middle manag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 of you all – not just top management or the person in the next office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ersistence &amp; stamina - stay th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You &amp; Local Authority Management – vital role - can make the agreement succeed &amp; transform the citizen’s experience of public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Arial"/>
              </a:rPr>
              <a:t>9. Challenges for Managers and Unions</a:t>
            </a:r>
            <a:r>
              <a:rPr b="1" lang="en-IE" sz="4000" spc="-1" strike="noStrike">
                <a:solidFill>
                  <a:srgbClr val="009900"/>
                </a:solidFill>
                <a:latin typeface="Arial"/>
              </a:rPr>
              <a:t> (cont’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ons – engage positively and constructively – opportunity to influence and contribute is 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dership needed on both sides to deliver real change and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 Body and Labour Court have emphasised consultation &amp;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Arial"/>
              </a:rPr>
              <a:t>10. What is Requi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roved HR/Leadership/Change skills an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ility to manage in a re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unications vital – to date good &amp; 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line &amp; middle managers – role vital &amp; more delegation to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seminate good practice - no time to rein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Arial"/>
              </a:rPr>
              <a:t>10. What is Required (cont’d.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dership &amp; managemen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ch improved performance management &amp;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sourcing – thorny but part of solution if approached correctly and in line with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9900"/>
                </a:solidFill>
                <a:latin typeface="Arial"/>
              </a:rPr>
              <a:t>11. Scrutiny &amp;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ings &amp; Reforms – must be verifiable &amp; transparent – external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 Reports on Action Plans due to be submitted to the Body next we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show much further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rutinised as never before – ECB &amp; IMF, Government, Media &amp; the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visit Action Plans later in the year to factor in relevant developments post-Comprehensive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urther Savings Report next 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Arial"/>
              </a:rPr>
              <a:t>12.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ent McKinsey survey on organisational re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8% added value, completed on time and fully met business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sons – most successful involved staff and explained to staff changes plan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 communication plans and con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sured HR, ICT, Financial and other systems/processes in place to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Arial"/>
              </a:rPr>
              <a:t>12. Conclusions (Cont’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challenges be met? - Experience to date suggests they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it be easy? - Certainly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iculties ahead? - Without dou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they be overcome?   –  Yes if approached correctly by managements &amp; Un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Arial"/>
              </a:rPr>
              <a:t>1. Origins of Agre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9 – non payment of general round pay increases, reduction in variable pay, pension levy &amp; pay reductions, recruitment morato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erage 14% reduction in take home pay, up to 24.5% for top gra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avings from pension levy and pay reductions alone - €1.8bn pa s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icult environment for Unions to sell need for and content of Agreement to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or more information visit our website at: </a:t>
            </a:r>
            <a:r>
              <a:rPr b="0" lang="en-GB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mplementationbody.gov.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590920" y="685800"/>
            <a:ext cx="4248000" cy="1922400"/>
          </a:xfrm>
          <a:prstGeom prst="rect">
            <a:avLst/>
          </a:prstGeom>
          <a:solidFill>
            <a:srgbClr val="ccff99">
              <a:alpha val="50000"/>
            </a:srgbClr>
          </a:solidFill>
          <a:ln w="120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Garamond"/>
                <a:ea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Garamond"/>
                <a:ea typeface="Arial"/>
              </a:rPr>
              <a:t>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9900"/>
                </a:solidFill>
                <a:latin typeface="Arial"/>
              </a:rPr>
              <a:t>2.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000000"/>
                </a:solidFill>
                <a:latin typeface="Arial"/>
              </a:rPr>
              <a:t>Implementation Body – established July 201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000000"/>
                </a:solidFill>
                <a:latin typeface="Arial"/>
              </a:rPr>
              <a:t>Supported by sectoral Group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000000"/>
                </a:solidFill>
                <a:latin typeface="Arial"/>
              </a:rPr>
              <a:t>Annual Action Plan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000000"/>
                </a:solidFill>
                <a:latin typeface="Arial"/>
              </a:rPr>
              <a:t>First Annual Review of savings and progress published in June 201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000000"/>
                </a:solidFill>
                <a:latin typeface="Arial"/>
              </a:rPr>
              <a:t>Next report – October 201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000000"/>
                </a:solidFill>
                <a:latin typeface="Arial"/>
              </a:rPr>
              <a:t>Significant events – interim repor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Sustainable paybill savings - €289m in Year 1 (Mar 2010 to Mar 2011) – exceeded targ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Driven primarily by numbers reduction (down by 5,349 in the period and down 17,600 since end 2008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but also overtime (down 5.2%), changed work practices, rationalisation, extended working day in Health,  etc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Climate of Industrial pe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Solid start – but – much remains to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9900"/>
                </a:solidFill>
                <a:latin typeface="Arial"/>
              </a:rPr>
              <a:t>3. First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Arial"/>
              </a:rPr>
              <a:t>4. Status of Agre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Government decision to abide by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withou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deliver what it says and new Programme for Government public service reform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reement – a tool 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Department of Public Expenditure and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Reform &amp; Delivery Office in D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37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9900"/>
                </a:solidFill>
                <a:latin typeface="Arial"/>
              </a:rPr>
              <a:t>5.</a:t>
            </a:r>
            <a:r>
              <a:rPr b="1" lang="en-IE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009900"/>
                </a:solidFill>
                <a:latin typeface="Arial"/>
              </a:rPr>
              <a:t>Some examples of progress to 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re significant redeployments –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1000 CWOs from HSE and 700 Fás staff to D/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deployment/re-assignments in the Health Service post early retirement/voluntary redundancy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1000+ Primary teachers, 100 secondary teach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oductivity increases and effici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xtra hours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ingle student grant scheme &amp; online – 4 schemes with 66 providers replaced by 1 scheme, 1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/Agriculture local offices – close 41, retain 16, redeploy 3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9900"/>
                </a:solidFill>
                <a:latin typeface="Arial"/>
              </a:rPr>
              <a:t>6. Some examples of  progress to date (cont’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hared services centre for medical card processing – less staff, more work and quicker turnaroun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n line 44% or 5,400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300 services online including new range of new epayment options, e.g. NPPR,  fines, waste b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hanges to work practices, flexibilities across the public service, e.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tandardisation of annual leave across public service – work advanc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odernisation of laboratory services in the health sector (€5m in savings) - radiology n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greements on work practice changes in certain hospitals e.g. Holles St., St. Michael’s House (€3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fficiency reviews of all Prisons (€21m savings through new work practic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rganisational reforms in Fingal Co. Co.(€3.7m in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Arial"/>
              </a:rPr>
              <a:t>7. Economic and fiscal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2011 – €18bn Exchequer Borrowing Requi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ot sustainable - gap must be reduced to 8.6% next year – €3.6bn or €4b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prehensive Review of Expendi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ifficult decisions expe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ow-hanging fruit 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ainful but v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ot business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otect frontlin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ill have significant IR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Arial"/>
              </a:rPr>
              <a:t>7. Challenges a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urther significant reductions in staff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ogramme for Government commit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duction of between 18,000-21,000 by 2014 over end 2010 levels and a further 4,000 by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ome decisions made 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VECs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erging of employment rights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malgamation of Local Author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orth and South Tippe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imerick City and Cou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4:48:15Z</dcterms:created>
  <dc:creator/>
  <dc:description>Cleaned by 3BClean from 3BView: http://www.3bview.com</dc:description>
  <dc:language>en-US</dc:language>
  <cp:lastModifiedBy>Alan Plummer</cp:lastModifiedBy>
  <dcterms:modified xsi:type="dcterms:W3CDTF">2011-10-14T14:19:02Z</dcterms:modified>
  <cp:revision>15</cp:revision>
  <dc:subject/>
  <dc:title>Croke Park Agreement – Challenges Ahead</dc:title>
</cp:coreProperties>
</file>